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CD0-F728-4256-8AFB-87835C28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93A-7FC0-414D-A1DE-BC56167F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EA6-4C45-4779-84F2-C57CA81C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EEC-2288-457C-99BF-5BE0888A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17A-9C2F-4F44-94B0-B0A96A5D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B69-7A2E-454C-B5CC-BD5B47A8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1B6-C84B-4E28-A6FA-EA219FCD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935-502D-4BD7-99B1-F1C3C091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2B8-BBA1-4C00-8296-66736375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325-5E10-4AF3-85B2-F1DC7B89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611-D437-4779-9F36-AE069C68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3C9-5B30-468B-A49E-4139D53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127-030A-4B54-A044-3D77B1E49B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2:50:21Z</dcterms:created>
  <dc:creator>Education</dc:creator>
  <dc:description/>
  <dc:language>en-US</dc:language>
  <cp:lastModifiedBy>Education</cp:lastModifiedBy>
  <dcterms:modified xsi:type="dcterms:W3CDTF">2011-02-09T12:52:04Z</dcterms:modified>
  <cp:revision>1</cp:revision>
  <dc:subject/>
  <dc:title>Slide 1</dc:title>
</cp:coreProperties>
</file>